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5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move the slide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ftr" idx="5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 type="sldNum" idx="5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A5E5-1F34-47B9-A374-C9AE8C061BAD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0CC3DC-183D-4406-928B-4D2FF912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BB9507-C2B4-4E8F-B7B3-4C574597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E049C7-9CE4-4151-88E0-D5962604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7F4C1A-39D5-4D05-AAC4-2B352CBC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064A2E-93AC-4D8C-9CFA-28B47899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DACABF-B2FA-4170-93CE-4107046D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D8D0CD-23FC-47E3-BF4C-D57CD55E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CA0A38-4AB8-46D4-B811-35B6837E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23599B-2EB3-4546-B121-256C2DC9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66408A-51E4-432E-B28B-D871E92A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4B71BD-6E52-4716-89AD-E2E60C9F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C58D04-84B8-4AE0-8549-6B8C5BFA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0956F9-511B-4E1E-B8FF-B586FD2A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47ECD3-5555-48EC-8A90-FA48A08F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ACB4AD-A920-41DA-BACE-69BFC6E1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060DEA-4DD2-4833-B92E-E4909870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476616-4A65-4300-894A-EB4D1E8A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E5468E-C4CB-4998-BAFC-46CBC85C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52BD2A-52C1-48D4-9662-C2E77269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D26ECE-B5FF-4032-8F82-41B8C228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5BCEC1-3EE9-41D3-A784-D371F01F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9F2E64-F279-49D5-965B-A6B30B89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931DDA-03BB-45C9-B7FD-7B5A0273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5F3984-D93D-4FE8-A5F3-54150020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97D92A-2792-4444-8248-677BBEB7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2EBF78-4139-4C7A-BFA4-A10EE9DD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6B25AF-5AE3-45DF-8E88-A3B320A0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371919-D9C1-4626-9265-C0D00C42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4934B8-7C67-4539-9FAF-1CEEE151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8DF548-D8DC-43BF-B902-1FD58A6C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AD68C-D8DC-4474-867B-6D191C5E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42A76A-2EA8-4BE1-965F-381AE1A3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258F9D-B904-4DB9-BC3C-F9144693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6A2FF8-A363-4444-87B9-F1B6DE19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C68B22-BC7D-4B94-BB7E-16E9D7D9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33AD27-3E42-4E8B-86BE-DD98A0F1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5DDA82-8659-4827-A782-1C7EF664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2361A0-0ABD-4132-A2C1-3058A5CA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0488DC-CA4E-4104-BC8D-472C2B30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A1ED02-79CB-448A-82AE-E5199983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F22605-AC1E-4041-921F-7C7881DB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F3C1F-8253-40DE-8553-3D83B217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A174D9-6105-4BF5-8373-9690BA5B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3FE3AB-576A-47FE-AB9F-00883579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CCB991-E4A9-4837-9839-420F0BC5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7B795F-BE56-4E04-8BDC-8689B7C4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9FF4BB-FCA6-4B5B-81E5-742BEDCE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DDF32B-1E27-466F-A728-FB29D05B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2E1CD6-A040-40AF-8CB1-3A368528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65C155-92BD-4EC3-B464-E3FD2848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F734A1-BDB5-4BC4-A3BF-4C893829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597FCC-DA1E-4778-AD58-0FF50B6F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9ADC3-4305-461A-8CFB-F2DC764E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4E7769-CE08-4FA3-A35B-9488843A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88D8DB-C1BD-4D88-81BF-24ACCF32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F32ADD-40CF-4CCF-BC54-C3BD369E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4853B6-CA06-4F28-8015-CCA686C8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B54E04-BBD4-4CD3-8FF8-3A7D5F03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2AC7CD-DB55-4D6E-B93E-B81C43EE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4C047B-EC1A-42E8-A3C4-2C3E2B93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82432E-0AE1-4FF9-B8B9-DD4E1DAC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0F5E9A-3ECB-437E-A25B-997100BC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53F5E5-83A8-4293-8868-F8338EC3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963AE-A4B6-4111-A26E-8F9EE469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7E1211-312E-4C03-94BF-0081E720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A59571-D746-4FFF-88A3-E7021E7C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8FA57D-831C-4DDC-891C-95884734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1F0093-FFCA-4335-91CA-B5846FC1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C57C79-9D10-4E7F-A7EE-C3497A83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D4E539-FDE2-4F66-8270-1C1D2F9D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6C480B-5B84-4FF2-AECA-8E70E931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1A5E9A-5F63-47DA-9C1A-C720DB83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8B4DD7-AE6B-4D87-A15C-1B336458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1E4C165-BE8D-4055-A250-34BEF615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2EB52-AEE6-459D-930E-5DDB6AE2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C042423-FE96-4F4C-93AA-94272F57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D2C5F55-361F-4EA5-89AC-6AA399E5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A7FA730-86D9-4EAF-95BA-57F9A7C5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C765559-E0F7-47F3-8DFF-C274BE95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2FBE53-8C93-490F-A2E5-C701C305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0DE89FC-A6EA-4B94-A9E7-BA9CE101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DA0E31F-2A36-4D30-92C3-5270F29D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AEC1327-1BD1-4497-A72A-BD8F4F77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0F1F231-F391-4D26-AA32-00C5FB0C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CFE7E4-3C7B-484D-8F3C-E23FBA8BC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0A1BC-A874-4B0A-86DF-66972B83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10F594B-C6AD-4BC9-8514-FCE1DC35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120B8C8-D8EF-4B63-9A2C-206C973E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09D49AD-09A4-45B2-8A32-EA4D2B63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CACC9E8-FEE3-4294-987D-32786871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7EA9F8-26DA-4E2B-8284-E8B4FF69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EB23D18-AA6C-4312-9053-D2854CEE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0F0C310-EF22-4EE7-BF7F-85589B91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11713F6-A8E0-4D73-BAC8-0CB57E91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73EF726-51C3-423B-8F1A-CDF714B1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599579A-E467-4452-85AA-E3FA0B0B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4D97F-E0E4-4B6D-8316-D6B42791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09E24B6-1F86-4080-AB8A-D9047B8B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77C28A-46E0-4700-818B-9991F942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FF3118B-6E42-4B29-A32E-F13DC98DD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CD4159E-969A-47A2-8812-0BB7A27E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D01F079-F0B0-4AD2-B3BE-570BFFF4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C4FDE96-7955-477D-8FFC-415F9DF3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9AFFB76-2954-43AE-B6F0-EF8479D5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C72E461-B6E4-4215-9F0F-71E29301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16A5DB4-62C0-4137-A02B-2F7725E6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63488E6-5BE5-4B64-A8CF-E714D9D0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4E81F-C603-4609-A99E-1C39EC3F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2480867-88F4-49E0-BD09-D594193E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C4AD1B1-E1E4-4CB7-BD67-8902542B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BDA91F1-6DB2-4591-9BBC-51CD894E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06ADAC6-33DE-458E-87BC-1FB4D257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25629A5-E63D-489A-84A1-41F4F72C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A8A283B-7E64-4CDE-905F-26C50035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07C6FE6-8FA5-4B8D-B2E2-20CC1E05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C5627F8-BEBA-449A-BB3D-454AFCF8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B781311-51A2-49C8-BAE9-6517E2B3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49060A5-75AD-48DF-986A-5025B91B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108EE-8A7F-4CCE-8917-147207A3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898049C-0BE0-4019-BAFF-6F995A79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3AA6D90-6C4B-4B1F-98FC-E521AC5C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D93CA80-806E-4AA5-8134-1856C3B2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D0A5A95-9EE1-4AD8-9815-C6D41F39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E687B72-ABEB-43FC-8A55-4F8CFE9A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4B98086-5B58-4753-AF6B-6744E177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B564B67-2284-476A-962A-6F164D3E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5CD7502-2EE4-4AB0-A9FA-469082B1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F25B4AF-09CC-4C2D-A15E-0B0E16BB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80D8FB1-D8BC-4DE3-AEF3-8CD984E9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181CE-6DF5-4965-94DE-5DEFE3EA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EFE9C10-AE5A-426B-B095-5C346B6C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79E95A0-239B-41E2-8D92-D3662ADC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298B5F5-3D6B-4152-B1FA-E23A53D7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1811682-BBBF-448D-B8F7-36771209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9B7540D-06BE-4444-87D0-B1EDDA27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CF6C7ED-BF7E-47A5-8E58-B7C35C3A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BA4AA68-1819-4021-8A44-236DAEE2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D77B892-D73B-4809-B2FE-1C3AD9A3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92456B4-148E-4098-9A12-B21676B7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85F56-FC20-4F07-8729-9D5BE35D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D32FF-CAEB-4073-B721-7DCE9EDE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52FAAC-80B3-45D8-BCAF-48288B36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87DA43-F09D-40C6-B008-C5E20A7D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E54AED-D2C4-4ABF-A331-838D8A4A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D6A3CE-7D57-4492-83F4-571CA7D6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0EFFD7-3479-4A1F-B663-E581C54F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FBC95F-36C7-42AD-BAA6-A8634BFB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BC0575-67FE-4597-AB3C-A92DC2B8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5394D8-D423-4D04-9BAA-A13EBB0F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04A965-313E-420E-B302-A6D6CC34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04B7B6-B71D-4315-B1D7-4E8DB0A6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84EA47-3806-42BD-9AA1-412BEAEE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FBACF1-EF88-4183-B915-0284A6BB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154564-7713-4514-973D-163348A2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65CF55-8C80-40D5-9003-8C2660A4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D743C2-6755-4676-B9D6-EFF58C29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80B144-25F0-4D85-BDE1-0CCD47CA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6C0AF5-274B-48B7-B52E-9ED915AC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DF5B0C-0794-4FEC-9E9F-69745EE5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1C1457-A9DB-4E94-946F-6F088FCC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C3B5A8-B374-4A31-BD3F-9F85F6AF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96FD5F-D335-4253-842D-9A6170A4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BC81AE-31EC-4D8A-A8C6-2AA5B3E3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717CDA-E801-40BE-A4F1-B6FDE397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CB8D52-BC16-4E3F-B9FE-D0BB91E9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5BB6F0-99F5-4853-A26E-4F86DD8F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8220B6-4877-4BC6-B228-C17325E7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713DF5-262B-4ECC-8BF6-1F360BE5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339C71-362B-487F-A27D-963C8DDA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3034B4-1B9B-405C-8C8D-F62BB18F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A76407-942E-4268-A528-D16D399F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B05E93-22C6-454F-A184-C84B6C7C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9C025E-6EDE-4141-995B-1B49EE83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235B10-BF52-4D1A-96EA-D0BAC21E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780993-E5A5-46E4-AEDF-71287AFB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D413CC-5767-414F-AD72-F90AFEB2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24D36A-5806-4765-9D4B-39AF265F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9F0359-DE70-4290-94D8-C880180A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90A70F-0185-4E69-8C48-C7C1F293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E8B643-D3AE-4EC1-9BCD-F1E619C1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84CAE4-F2DF-4458-9304-FA14DAA8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8728AB-1814-4945-B810-BB9D29BB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CCF1FB-837A-4B83-9230-CECC9820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D3160F-CD77-413B-936A-7B42D6E9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2C9136-C644-490E-A637-BAF3A86C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28CDBA-310B-4618-A0DB-6495A67F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F394CF-343A-4A17-9315-276182A3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D06856-9EC2-46CA-92C0-AC0B74CD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FB477D-AC88-4F54-BB5F-D934CC0AA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DEE9B4-C51D-4292-979C-89204A5F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435EE8-AAA9-4D31-9A13-524AEE70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EBC567-014C-4DA6-98B7-79A6ED88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FF038B-B0B8-4B2F-A605-5E325296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47245D-18B3-4776-BA93-F8694C22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624B54-3FDB-4492-9FC7-B91ADD52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C10246-B4B4-40A9-9A50-419662DF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A5FEBF-C649-44ED-9547-204EF945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A449FC-EA72-48DD-8CA1-DC5A4CDF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57FDB7-04C5-4ADD-A7F7-39FA9300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CFF2E4-2FC5-4FD5-96B4-51E49FB1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08C1B3-AC09-4D17-B7B6-B9FAA0BA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5DC942-11AB-48EC-B64B-0A26824E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6ECC2C-742E-4777-A677-E83C094C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7B7246-95E8-41B4-9322-AB447550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CAF0-DCEF-4EE7-890A-AC2533D07A46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8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F988-025B-4247-81CB-BA211CA4D57E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89E7-0E76-4EBD-9AAA-CD0F86BDE36F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092A-7A1F-4BEC-9DA2-6CFD60293BF2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7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3FA5-8551-4102-83DD-459EE5D7B5E0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0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C71B-FDD3-4AFC-B351-9E009AAD74DE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7391-1768-495C-AE27-ADE5C96A257F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FE25-58D7-4EF9-8246-3A4CAB475CDA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E857-73ED-4BE5-9092-F1830A95EF47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pic>
        <p:nvPicPr>
          <p:cNvPr id="748" name="Obrázek 5" descr=""/>
          <p:cNvPicPr/>
          <p:nvPr/>
        </p:nvPicPr>
        <p:blipFill>
          <a:blip r:embed="rId3"/>
          <a:stretch/>
        </p:blipFill>
        <p:spPr>
          <a:xfrm>
            <a:off x="-12708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TextovéPole 6"/>
          <p:cNvSpPr/>
          <p:nvPr/>
        </p:nvSpPr>
        <p:spPr>
          <a:xfrm>
            <a:off x="674640" y="879480"/>
            <a:ext cx="3349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54a6f"/>
                </a:solidFill>
                <a:latin typeface="Arial"/>
              </a:rPr>
              <a:t>MINISTRY OF REGIONAL DEVELOPMENT</a:t>
            </a:r>
            <a:br>
              <a:rPr sz="1000"/>
            </a:br>
            <a:r>
              <a:rPr b="1" lang="en-GB" sz="1500" spc="-1" strike="noStrike">
                <a:solidFill>
                  <a:srgbClr val="054a6f"/>
                </a:solidFill>
                <a:latin typeface="Arial"/>
              </a:rPr>
              <a:t>National Coordination Authority</a:t>
            </a:r>
            <a:endParaRPr b="0" lang="en-US" sz="15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sldNum" idx="5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0EAE-608E-4005-BCC6-F991543D50CA}" type="slidenum"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5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37AB-4C97-4D3D-A3EC-157143428C8D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E8DA-C041-4356-8394-D16FD631BCE1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FBBB-A987-4553-827E-4A6E39A1FAEA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E599-33AC-4B1F-BD2B-A27A4DD64B63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8B5D-B230-4F47-8133-AC22E759DA1A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A288-C97D-45E2-98BC-5717DBBFCF1E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2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7852-EEDC-4DEC-9972-15EF49526FA6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900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54a6f"/>
                </a:solidFill>
                <a:latin typeface="Century Gothic"/>
              </a:rPr>
              <a:t>Raimonda Mackevi</a:t>
            </a:r>
            <a:r>
              <a:rPr b="1" lang="lt-LT" sz="1500" spc="-1" strike="noStrike">
                <a:solidFill>
                  <a:srgbClr val="054a6f"/>
                </a:solidFill>
                <a:latin typeface="Century Gothic"/>
              </a:rPr>
              <a:t>čiūtė, Visionary Analytics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700" spc="-1" strike="noStrike">
                <a:solidFill>
                  <a:srgbClr val="0070c0"/>
                </a:solidFill>
                <a:latin typeface="Century Gothic"/>
              </a:rPr>
              <a:t>Thinking outside the box:</a:t>
            </a:r>
            <a:br>
              <a:rPr sz="2700"/>
            </a:br>
            <a:r>
              <a:rPr b="1" lang="en-US" sz="2700" spc="-1" strike="noStrike">
                <a:solidFill>
                  <a:srgbClr val="f2af00"/>
                </a:solidFill>
                <a:latin typeface="Century Gothic"/>
              </a:rPr>
              <a:t>Methodological Innovations in Evaluation of Training Courses Funded by the ESF in Lithuania</a:t>
            </a:r>
            <a:endParaRPr b="0" lang="en-US" sz="27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1440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34ea2"/>
                </a:solidFill>
                <a:latin typeface="Century Gothic Bold"/>
              </a:rPr>
              <a:t>3.10.2018, MMR, Prague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900000" y="2276280"/>
            <a:ext cx="77392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The only way to know the needs is to ask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Big data is only for business and advertis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971640" y="22050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Job ads as the reflection of market need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Continuous 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process of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data min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Data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Weekly scraping of 7 largest vacancies websites (from May 2016)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54a6f"/>
                </a:solidFill>
                <a:latin typeface="Century Gothic"/>
              </a:rPr>
              <a:t>Approx. </a:t>
            </a: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5 k. unique adds each week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Classification by occupations (ISCO 4 digit), economic sector (NACE 4 digit), municipality and individual compan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Indicators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Aggregate and detailed demand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Hard to fill vacanc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Demand for specific competences and bottleneck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5" descr=""/>
          <p:cNvPicPr/>
          <p:nvPr/>
        </p:nvPicPr>
        <p:blipFill>
          <a:blip r:embed="rId1"/>
          <a:stretch/>
        </p:blipFill>
        <p:spPr>
          <a:xfrm>
            <a:off x="2340000" y="1754280"/>
            <a:ext cx="4024440" cy="246672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573280" y="1267920"/>
            <a:ext cx="399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4002120" cy="26370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4" descr=""/>
          <p:cNvPicPr/>
          <p:nvPr/>
        </p:nvPicPr>
        <p:blipFill>
          <a:blip r:embed="rId3"/>
          <a:stretch/>
        </p:blipFill>
        <p:spPr>
          <a:xfrm>
            <a:off x="4686480" y="4195800"/>
            <a:ext cx="3989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More “objective“ data (compared to interview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tinuous process of data collection: identification of tren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Flexibility, depending on the question (e.g. Labour demand by the level of education in LT region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Limitations determined by the chosen logic of the categorising (e.g. whether driving courses should be categorised as professional training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Only past and present trends (difficult to forecast the future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3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5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the 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Only qualified audit institutions can monitor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o evaluate the quality, we need to interview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Nobody wants to have their courses monitor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searchers monitor training courses themselv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ests before and after the trainings to evaluate whether the participants gained knowledg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Possibility to check information identified by organisers during the interview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Contact with participants and lectur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The lack of educational competencies to evaluate details and learning proces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Only one-day training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Low-scale example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0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2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the effectiveness of training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12"/>
          <p:cNvSpPr/>
          <p:nvPr/>
        </p:nvSpPr>
        <p:spPr>
          <a:xfrm>
            <a:off x="3348000" y="1330200"/>
            <a:ext cx="511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inking outside the box: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1" lang="en-US" sz="3200" spc="-1" strike="noStrike">
                <a:solidFill>
                  <a:srgbClr val="f2af00"/>
                </a:solidFill>
                <a:latin typeface="Century Gothic"/>
                <a:ea typeface="Arial"/>
              </a:rPr>
              <a:t>Methodological Innovations in Evaluation of Training Courses Funded by the ESF in Lithuania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2" name="Rectangle 13"/>
          <p:cNvSpPr/>
          <p:nvPr/>
        </p:nvSpPr>
        <p:spPr>
          <a:xfrm>
            <a:off x="3348000" y="59562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Raimonda Mackevi</a:t>
            </a: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čiūtė, Visionary Analytics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October 4, 2018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0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benefit analysis as a method that is unsuitable for the evaluation of social intervention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Impossible to get the necessary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An inflexible method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Labour Exchange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O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ffice combining different datasets and providing necessary data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effectiveness analysis of trainings for unemploy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75840" y="13078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720" y="1915920"/>
            <a:ext cx="4608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Possibility to evaluate the real impact of trainings in numbe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Identification of indicators that affect the results (e.g. the price of training courses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Comparison of different trainings as well as comparison of trainings and other active labour market measure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1640" y="1290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664160" y="1959120"/>
            <a:ext cx="447984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Does not show whether results were determined by trainings or other facto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The method can be applied only for an evaluation of particular measures and trainings (e.g. if the expected result cannot be monetised or turned into a binary variable, the method is unsuitable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8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nclusions and </a:t>
            </a:r>
            <a:r>
              <a:rPr b="0" lang="en-GB" sz="3600" spc="-1" strike="noStrike">
                <a:solidFill>
                  <a:srgbClr val="ffffff"/>
                </a:solidFill>
                <a:latin typeface="Century Gothic Bold"/>
              </a:rPr>
              <a:t>the </a:t>
            </a: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ain idea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7200" y="1773000"/>
            <a:ext cx="8686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No method is universal: combination of different methods is the only solut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Data exists (somewhere) but we need to make an effort to “find” it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The real aim of evaluations: to suggest ideas how to “get out” of the box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2"/>
          <p:cNvSpPr/>
          <p:nvPr/>
        </p:nvSpPr>
        <p:spPr>
          <a:xfrm>
            <a:off x="3492360" y="2398680"/>
            <a:ext cx="41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ank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y</a:t>
            </a: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ou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for your attention!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f00"/>
                </a:solidFill>
                <a:latin typeface="Arial"/>
                <a:ea typeface="Arial"/>
              </a:rPr>
              <a:t>Let’s discuss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9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6" name="Rectangle 13"/>
          <p:cNvSpPr/>
          <p:nvPr/>
        </p:nvSpPr>
        <p:spPr>
          <a:xfrm>
            <a:off x="250920" y="4653000"/>
            <a:ext cx="2305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4a6f"/>
                </a:solidFill>
                <a:latin typeface="Century Gothic"/>
                <a:ea typeface="Arial"/>
              </a:rPr>
              <a:t>Raimonda Mackeviciute</a:t>
            </a:r>
            <a:endParaRPr b="0" lang="en-US" sz="14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Junior Researcher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Visionary Analytics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7" name="Picture 8" descr="C:\Users\user\Desktop\FOTO\0X5A2886.jpg"/>
          <p:cNvPicPr/>
          <p:nvPr/>
        </p:nvPicPr>
        <p:blipFill>
          <a:blip r:embed="rId2"/>
          <a:stretch/>
        </p:blipFill>
        <p:spPr>
          <a:xfrm>
            <a:off x="317520" y="1708200"/>
            <a:ext cx="22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Object of the evaluation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Training courses funded by </a:t>
            </a:r>
            <a:r>
              <a:rPr b="1" lang="en-GB" sz="2400" spc="-1" strike="noStrike">
                <a:solidFill>
                  <a:srgbClr val="054a6f"/>
                </a:solidFill>
                <a:latin typeface="Century Gothic"/>
              </a:rPr>
              <a:t>the </a:t>
            </a: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European Social Fund in Lithuania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09" name="Picture 2" descr=""/>
          <p:cNvPicPr/>
          <p:nvPr/>
        </p:nvPicPr>
        <p:blipFill>
          <a:blip r:embed="rId1"/>
          <a:stretch/>
        </p:blipFill>
        <p:spPr>
          <a:xfrm>
            <a:off x="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ethodological innovations: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Survey of ALL beneficiar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Usage of big labour market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Real-time m</a:t>
            </a: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nitoring of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Cost-effectiveness analysi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2af00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im: to hear the beneficiaries‘ opin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ntacts are not availabl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Large scale surveys might be implemented only by survey compan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presentative sample is always the answer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mall surveys about selected cas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57200" y="2099880"/>
            <a:ext cx="86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questing contact detail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urvey of 100,000 trainings‘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mbination of online survey tools and cod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Many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more answ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Answers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to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open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ended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questions: ideas where else to look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Possibility to analyse answers on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a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particular level (e.g. financial instrument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ypical weaknesses of survey metho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GDPR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ime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suming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7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9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</a:t>
            </a:r>
            <a:r>
              <a:rPr b="0" lang="lt-LT" sz="2800" spc="-1" strike="noStrike">
                <a:solidFill>
                  <a:srgbClr val="ffffff"/>
                </a:solidFill>
                <a:latin typeface="Century Gothic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7:44:50Z</dcterms:created>
  <dc:creator>Zilvinas</dc:creator>
  <dc:description/>
  <dc:language>en-US</dc:language>
  <cp:lastModifiedBy>Jansová Lenka</cp:lastModifiedBy>
  <dcterms:modified xsi:type="dcterms:W3CDTF">2018-09-28T09:25:13Z</dcterms:modified>
  <cp:revision>37</cp:revision>
  <dc:subject/>
  <dc:title>Jaunimo geografinis, profesinis ir socialinis judumas: efektyvesnės ekonomikos ir teisingesnės visuomenės link</dc:title>
</cp:coreProperties>
</file>